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F51-3087-4C3E-8FBF-EC29BF62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B5B-E784-4AE6-A33D-0B1FAA8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B86-CDB0-4216-8748-3AF1B3AC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D54-9C10-4879-B2E0-F5DAE301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02E-14D1-4438-A5CE-B3665C0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F08-575B-4D11-8E19-60BBDF9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705-715E-471F-89E6-E474275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F49-3143-4040-A673-4F70BBC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C23-D429-436E-ABA3-B74EB5E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11B-D570-4A6A-AA3E-2ECF629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EFE-F053-4839-B8AD-0C2211E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3C9-F925-41D3-ABBB-C3CC4E0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AA2-AF87-400F-8D1B-F8B5E040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y An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y topic is cupcake’s I love them so 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S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57600" cy="1611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pcakes make me sm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90368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588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1523880" cy="19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66880" y="4267080"/>
            <a:ext cx="851040" cy="9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09480" y="2286000"/>
            <a:ext cx="1225800" cy="183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990720" y="4038480"/>
            <a:ext cx="1225440" cy="1832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cakes 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70040" cy="215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cupcake’s it’s impossible not to!! 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947960" cy="191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00600" y="4572000"/>
            <a:ext cx="1800360" cy="1533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3520" y="4095720"/>
            <a:ext cx="3429000" cy="78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2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0Z</dcterms:modified>
  <cp:revision>14</cp:revision>
  <dc:subject/>
  <dc:title>CUPCAKE’S</dc:title>
</cp:coreProperties>
</file>